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A4D2F-EEF7-42D5-BB66-81C18B476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45398-F229-4859-91E9-602B0F0F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8CEFA-58EE-40E3-A92F-76F8A174D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50EDB-D665-41CF-80C0-C8A654711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08B30-71E2-40BA-89D1-E4AC9A459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75EEE-6B0B-4D08-B094-EBBF27683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12452-89DD-4875-B2F1-48F44E8E0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341DD-78BB-45CB-B9EC-EA9B8A364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48B9F-DB38-41D8-8F24-3CA1DFEF1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EAB32-EE44-418A-B36A-CB7A093F1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B5C61-4E6A-4C9E-8D75-4184A41C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94266-6C04-4D56-B1B5-D00B78796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57FBD-5B62-4921-A3E4-BDD4D4A1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008D0-6B68-4611-975D-71ECF00C1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814B8-67E3-415B-B231-29AA42E56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9258F-1F32-4508-85C1-1AAB790D8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1A2DB-0944-44A1-9B17-6828858FD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6134-914F-42B8-BCD5-B2428CB1E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8808C-389A-4A8F-9949-DAEA325DE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DA7A-7EB4-46F0-AB9C-12F7400AB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F9F3C-9EC5-4185-8E5B-01F2C146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7B75-B185-433E-A188-AE36F2081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2E833-5130-4401-BDB6-CFC36B8D8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3507-D19C-4114-9A3F-31D57DD5D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C720-17D2-4424-9D25-1E57BB036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8AB5-49ED-4B01-9BCA-AE7B32F95B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Distance Learning: Is It Worth It?</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J Baile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erging Technolog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tober 2009</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Distance Learning Cost Effective?</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 from draining funding away from the public school system, analysis from the Commonwealth Foundation also found that cyber charter schools are saving Pennsylvania taxpayers money. Spending on cyber schools represents less than 1 percent of all expenditures for public schools. In fact, school districts spend 11 times the total cost of cyber schools on construction projects and debt service alone.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 Is It Cost Effective?</a:t>
            </a:r>
            <a:endParaRPr b="1" lang="en-US" sz="4400" spc="-1" strike="noStrike">
              <a:solidFill>
                <a:srgbClr val="ffffb7"/>
              </a:solidFill>
              <a:latin typeface="Arial Black"/>
            </a:endParaRPr>
          </a:p>
        </p:txBody>
      </p:sp>
      <p:sp>
        <p:nvSpPr>
          <p:cNvPr id="11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answ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YE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ources</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Wikipedia</a:t>
            </a:r>
            <a:r>
              <a:rPr b="0" lang="en-US" sz="3200" spc="-1" strike="noStrike">
                <a:solidFill>
                  <a:srgbClr val="ffffff"/>
                </a:solidFill>
                <a:latin typeface="Arial"/>
              </a:rPr>
              <a:t> – </a:t>
            </a:r>
            <a:r>
              <a:rPr b="0" lang="en-US" sz="2400" spc="-1" strike="noStrike">
                <a:solidFill>
                  <a:srgbClr val="ffffff"/>
                </a:solidFill>
                <a:latin typeface="Arial"/>
              </a:rPr>
              <a:t>“Distance Education”</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ighschool.suite101.com</a:t>
            </a:r>
            <a:r>
              <a:rPr b="0" lang="en-US" sz="3200" spc="-1" strike="noStrike">
                <a:solidFill>
                  <a:srgbClr val="ffffff"/>
                </a:solidFill>
                <a:latin typeface="Arial"/>
              </a:rPr>
              <a:t> – </a:t>
            </a:r>
            <a:r>
              <a:rPr b="0" lang="en-US" sz="2400" spc="-1" strike="noStrike">
                <a:solidFill>
                  <a:srgbClr val="ffffff"/>
                </a:solidFill>
                <a:latin typeface="Arial"/>
              </a:rPr>
              <a:t>“Online Classes For High School Student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archwarp.com</a:t>
            </a:r>
            <a:r>
              <a:rPr b="0" lang="en-US" sz="3200" spc="-1" strike="noStrike">
                <a:solidFill>
                  <a:srgbClr val="ffffff"/>
                </a:solidFill>
                <a:latin typeface="Arial"/>
              </a:rPr>
              <a:t> – </a:t>
            </a:r>
            <a:r>
              <a:rPr b="0" lang="en-US" sz="2400" spc="-1" strike="noStrike">
                <a:solidFill>
                  <a:srgbClr val="ffffff"/>
                </a:solidFill>
                <a:latin typeface="Arial"/>
              </a:rPr>
              <a:t>“Advantages &amp; Disadvantages of Distance Learning</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oogle Books</a:t>
            </a:r>
            <a:r>
              <a:rPr b="0" lang="en-US" sz="3200" spc="-1" strike="noStrike">
                <a:solidFill>
                  <a:srgbClr val="ffffff"/>
                </a:solidFill>
                <a:latin typeface="Arial"/>
              </a:rPr>
              <a:t> – </a:t>
            </a:r>
            <a:r>
              <a:rPr b="0" lang="en-US" sz="2400" spc="-1" strike="noStrike">
                <a:solidFill>
                  <a:srgbClr val="ffffff"/>
                </a:solidFill>
                <a:latin typeface="Arial"/>
              </a:rPr>
              <a:t>“The Virtual High School”</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Acyber.org</a:t>
            </a:r>
            <a:r>
              <a:rPr b="0" lang="en-US" sz="3200" spc="-1" strike="noStrike">
                <a:solidFill>
                  <a:srgbClr val="ffffff"/>
                </a:solidFill>
                <a:latin typeface="Arial"/>
              </a:rPr>
              <a:t> – </a:t>
            </a:r>
            <a:r>
              <a:rPr b="0" lang="en-US" sz="2400" spc="-1" strike="noStrike">
                <a:solidFill>
                  <a:srgbClr val="ffffff"/>
                </a:solidFill>
                <a:latin typeface="Arial"/>
              </a:rPr>
              <a:t>“Cyber Charter Schoo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b7"/>
                </a:solidFill>
                <a:latin typeface="Arial Black"/>
              </a:rPr>
              <a:t>What is Distance Learning?</a:t>
            </a:r>
            <a:endParaRPr b="1" lang="en-US" sz="43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education</a:t>
            </a:r>
            <a:r>
              <a:rPr b="0" lang="en-US" sz="3200" spc="-1" strike="noStrike">
                <a:solidFill>
                  <a:srgbClr val="ffffff"/>
                </a:solidFill>
                <a:latin typeface="Arial"/>
              </a:rPr>
              <a:t>, or </a:t>
            </a:r>
            <a:r>
              <a:rPr b="1" lang="en-US" sz="3200" spc="-1" strike="noStrike">
                <a:solidFill>
                  <a:srgbClr val="ffffff"/>
                </a:solidFill>
                <a:latin typeface="Arial"/>
              </a:rPr>
              <a:t>distance learning</a:t>
            </a:r>
            <a:r>
              <a:rPr b="0" lang="en-US" sz="3200" spc="-1" strike="noStrike">
                <a:solidFill>
                  <a:srgbClr val="ffffff"/>
                </a:solidFill>
                <a:latin typeface="Arial"/>
              </a:rPr>
              <a:t>, is a field of education that focuses on technology, and instructional software that aims to deliver education to students who are not physically "on si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Uses Distance Learning?</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schooled students. Parents of these students can choose courses in areas where they lack familiarity.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hletes and other students who are away from the school building a significant percentage of the time. Online classes can be taken "on the road."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who are ill and away from school.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who have trouble in a traditional high school classroom setting.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who failed a class and need to make up a requirement.</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ypes of Distance Education Course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ence conducted through regular mail.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Web Forum</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urse/Broadcast, in which content is delivered via radio or television.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ROM, in which the student interacts with computer content stored on a CD-ROM.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cketPC/Mobile Learning where the student accesses course content stored on a mobile device or through a wireless serv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distance learning, the integration of live, in-group instruction or interaction with a distance learning curricul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echnologies Used In Distance Learning</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conferencing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onferencing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ocassett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Board Forum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 Material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ice Mail/fax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cassette/DVD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enefits of Distance Learning</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education provides major benefits to at least three main markets or categories, such as:</a:t>
            </a: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anding access:</a:t>
            </a:r>
            <a:r>
              <a:rPr b="0" lang="en-US" sz="2400" spc="-1" strike="noStrike">
                <a:solidFill>
                  <a:srgbClr val="ffffff"/>
                </a:solidFill>
                <a:latin typeface="Arial"/>
              </a:rPr>
              <a:t> Distance education can reach underserved populations of students who cannot attend a school that offers the educational services they desire, perhaps because they live too far away. </a:t>
            </a: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erging market opportunities:</a:t>
            </a:r>
            <a:r>
              <a:rPr b="0" lang="en-US" sz="2400" spc="-1" strike="noStrike">
                <a:solidFill>
                  <a:srgbClr val="ffffff"/>
                </a:solidFill>
                <a:latin typeface="Arial"/>
              </a:rPr>
              <a:t> Distance education fuels the public's need for lifelong learning in education by providing access to information in a non traditional K-12 environment.</a:t>
            </a: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pting to new technology and environments:</a:t>
            </a:r>
            <a:r>
              <a:rPr b="0" lang="en-US" sz="2400" spc="-1" strike="noStrike">
                <a:solidFill>
                  <a:srgbClr val="ffffff"/>
                </a:solidFill>
                <a:latin typeface="Arial"/>
              </a:rPr>
              <a:t> Educational institutions may adopt distance education as a means to adapt to the rapid changes in technology being used in education today.</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advantages of Distance Learning</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actions at hom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to no contact with teacher or other studen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have required computer/technology knowledg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learning programs assume that the student will understand the material presented, but many people may need the material presented a different way for the idea to truly sink i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Distance Learning Cost Effective?</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erms of funding, research done by the Commonwealth Foundation for Public Policy Alternatives found that cyber charter schools receive, on average, about 73 percent of what a traditional school district spends to educate a student. This is because the state funding formula for cyber charter schools allows home districts to subtract certain expenditures from its per-pupil educational costs – expenditures ranging from student transportation and facilities acquisition and construction costs, to adult education programs and debt payments. In the 2005-2006 school year, the average cyber school expenditure per pupil was $8,371, while the state average per-pupil expenditure was $11,485 – a difference of more than $3,00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Distance Learning Cost Effective?</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erms of expenses, the BellSouth Foundation’s 20/20 Vision for Education report (2006) stated, “The operating costs of online schools are about the same as the operating costs of a regular brick-and-mortar school. . .many state policy leaders underestimate the true cost of providing a quality online education. . .the tendency might be to aim for the lowest-cost option, which might not yield the highest quality program.” The report was prepared by Augenblick, Palaich &amp; Associates, the same company whose “costing-out analysis” (November 2007) for the Pennsylvania State Board of Education established a baseline that the department and administration have repeatedly used in their pursuit of a fairer and more equitable way to fund public education.</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5:10:57Z</dcterms:created>
  <dc:creator>ejbailey</dc:creator>
  <dc:description/>
  <dc:language>en-US</dc:language>
  <cp:lastModifiedBy>EJ Bailey</cp:lastModifiedBy>
  <dcterms:modified xsi:type="dcterms:W3CDTF">2009-10-26T20:21:36Z</dcterms:modified>
  <cp:revision>5</cp:revision>
  <dc:subject/>
  <dc:title>Distance Learning: Cost Effective?</dc:title>
</cp:coreProperties>
</file>